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CCC-25DF-4689-9FA1-FC00C484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360-0EBF-4155-B653-222348A9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6B7-244C-45E3-9AE8-6B16CEB4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790-4F7F-448D-85AA-CA788B1D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490-097D-439D-9916-107CD40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C25-FBBC-4042-A11A-D0F9B9C3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5F8-7CF6-43C4-B69F-CBF0121A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C85-E5D9-4A32-B453-6C9131ED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21C-AB44-4170-9E0C-87D27C45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C9E-60FD-4FEB-B0D2-9413509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80B-8909-42A2-8677-210DD1AC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035-B763-40BB-89C5-05ABCF1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A93-6FEF-4B2D-9FFC-9AC95800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1.gif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1.gi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40e4"/>
                </a:solidFill>
                <a:latin typeface="Monotype Corsiva"/>
              </a:rPr>
              <a:t>Основные задачи трудового законодательст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необходимых правовых условий для достижения оптимального согласования интересов сторон трудовых отношений, интересов государ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вое регулирование трудовых отношений 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социальному партнерству, ведению коллективных переговоров, заключению коллективных договоров и согла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участию работников и профессиональных союзов в установлении условий труда и применении трудового законодательства в предусмотренных законом случа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надзору и контролю (в том числе профсоюзному контролю) за соблюдением трудового законодательства (включая законодательство об охране труда) и иных нормативных правовых актов, содержащих нормы трудового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1280" y="981000"/>
            <a:ext cx="151272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5400000">
            <a:off x="8246160" y="59266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43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66"/>
                </a:solidFill>
                <a:latin typeface="Comic Sans MS"/>
              </a:rPr>
              <a:t>Основные понятия, термины и определения в сфере охраны </a:t>
            </a:r>
            <a:br>
              <a:rPr sz="3300"/>
            </a:br>
            <a:r>
              <a:rPr b="1" i="1" lang="en-US" sz="3300" spc="-1" strike="noStrike">
                <a:solidFill>
                  <a:srgbClr val="000066"/>
                </a:solidFill>
                <a:latin typeface="Comic Sans MS"/>
              </a:rPr>
              <a:t>труда и промышленной безопасности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574280"/>
            <a:ext cx="8351640" cy="50230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8100000"/>
          </a:gradFill>
          <a:ln w="1015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храна труда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мышленная безопасность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пасные производственные объекты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изводственная деятельность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Условия труда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редный производственный фактор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пасный производственный фактор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Авария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нцидент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Безопасные условия труда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Гигиенические нормативы условий труда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Рабочее место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икроклимат на рабочем месте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редства индивидуальной и коллективной защиты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равмобезопасность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Эмоциональная устойчивость работника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ертификат соответствия работ по охран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8100000" y="5877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4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4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34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84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34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84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34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4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34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84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34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84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34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84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340"/>
                            </p:stCondLst>
                            <p:childTnLst>
                              <p:par>
                                <p:cTn id="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84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34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184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34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100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660066"/>
                </a:solidFill>
                <a:uFillTx/>
                <a:latin typeface="Comic Sans MS"/>
              </a:rPr>
              <a:t>Трудовое законодательство Р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052640"/>
            <a:ext cx="8256600" cy="561492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удовой кодекс Российской Федерации. Федеральный закон от 30.12.2001 г. № 197-Ф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 занятости населения в Российской Федерации. Федеральный закон от 19.04.1991 г. № 1032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б обязательном социальном страховании от несчастных случаев на производстве и профессиональных заболеваниях. Федеральный закон от 24 июля 1998 года N 125-ФЗ и д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08240" y="620640"/>
            <a:ext cx="66243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Федеральные законы (ФЗ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31280" y="0"/>
            <a:ext cx="1512720" cy="1314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400000">
            <a:off x="802872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75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49.9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297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797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297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797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00"/>
                </a:solidFill>
                <a:uFillTx/>
                <a:latin typeface="Comic Sans MS"/>
              </a:rPr>
              <a:t>Законодательство об охране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511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1015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КАЗ ПРЕЗИДЕНТА РОССИЙСКОЙ ФЕДЕРАЦИИ от 9 марта 2004 года N 31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 системе и структуре федеральных органов исполнительной в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 нормативных правовых актах, содержащих государственные нормативные требования охран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23.05.2000 № 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4600" y="907920"/>
            <a:ext cx="8699400" cy="120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Указы президента нормативно-правовые акты Правительства и др.орган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740720" y="565200"/>
            <a:ext cx="1224000" cy="1063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5400000">
            <a:off x="795564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4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4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76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26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9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83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63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1640" cy="67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Перечень нормативно-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080720"/>
            <a:ext cx="37432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ежотраслевые правила по охране труда(ПОТ Р М), межотраслевые типовыеинструкции по охране труда (ТИ Р М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траслевые правила по охране труда(ПОТ Р О), типовые инструкции поохране труда (ТИ Р О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авила безопасности (ПБ), правилаустройства и безопаснойэксплуатации (ПУБЭ), инструкциипо безопасности (ИБ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ые стандарты системыстандартов безопасности труда(ГОСТ Р ССБТ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оительные нормы и правила (СНиП),своды правил по проектированию истроительству (СП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ыесанитарно-эпидемиологическиеправила и нормативы (санитарныеправила (СП), гигиеническиенормативы (ГН), санитарные правилаи нормы (СанПин), санитарныенормы (СН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19760" y="1341360"/>
            <a:ext cx="42242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нтруд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едеральные орг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нительной в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гортехнадзор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атомнадзор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стандарт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строй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строй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нздрав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0" y="1049400"/>
            <a:ext cx="38386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рмативные 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052640"/>
            <a:ext cx="4716360" cy="94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едеральный орган исполнительной власти, утверждающий докум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8960" y="1628640"/>
            <a:ext cx="110340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276640"/>
            <a:ext cx="100800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637000"/>
            <a:ext cx="115236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3213000"/>
            <a:ext cx="108108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3860640"/>
            <a:ext cx="122400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4292640"/>
            <a:ext cx="151272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4581360"/>
            <a:ext cx="144000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4941720"/>
            <a:ext cx="100800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5300640"/>
            <a:ext cx="108108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5661000"/>
            <a:ext cx="93672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6093000"/>
            <a:ext cx="107964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6453360"/>
            <a:ext cx="1224000" cy="0"/>
          </a:xfrm>
          <a:prstGeom prst="line">
            <a:avLst/>
          </a:prstGeom>
          <a:ln w="2844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20000" y="0"/>
            <a:ext cx="1224000" cy="1063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80360" y="6237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4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655"/>
                            </p:stCondLst>
                            <p:childTnLst>
                              <p:par>
                                <p:cTn id="544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92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192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192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192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905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92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192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192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192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255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255"/>
                            </p:stCondLst>
                            <p:childTnLst>
                              <p:par>
                                <p:cTn id="5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8255"/>
                            </p:stCondLst>
                            <p:childTnLst>
                              <p:par>
                                <p:cTn id="5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9255"/>
                            </p:stCondLst>
                            <p:childTnLst>
                              <p:par>
                                <p:cTn id="5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255"/>
                            </p:stCondLst>
                            <p:childTnLst>
                              <p:par>
                                <p:cTn id="5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255"/>
                            </p:stCondLst>
                            <p:childTnLst>
                              <p:par>
                                <p:cTn id="5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255"/>
                            </p:stCondLst>
                            <p:childTnLst>
                              <p:par>
                                <p:cTn id="6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3255"/>
                            </p:stCondLst>
                            <p:childTnLst>
                              <p:par>
                                <p:cTn id="6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255"/>
                            </p:stCondLst>
                            <p:childTnLst>
                              <p:par>
                                <p:cTn id="6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255"/>
                            </p:stCondLst>
                            <p:childTnLst>
                              <p:par>
                                <p:cTn id="6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6254"/>
                            </p:stCondLst>
                            <p:childTnLst>
                              <p:par>
                                <p:cTn id="6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7255"/>
                            </p:stCondLst>
                            <p:childTnLst>
                              <p:par>
                                <p:cTn id="6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5440"/>
            <a:ext cx="914400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336600"/>
                </a:solidFill>
                <a:uFillTx/>
                <a:latin typeface="Comic Sans MS"/>
              </a:rPr>
              <a:t>Законы и иные нормативно-правовые акты субьектов Российской Федераци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336600"/>
                </a:solidFill>
                <a:uFillTx/>
                <a:latin typeface="Comic Sans MS"/>
              </a:rPr>
              <a:t>Акты органов местного самоуправления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336600"/>
                </a:solidFill>
                <a:uFillTx/>
                <a:latin typeface="Comic Sans MS"/>
              </a:rPr>
              <a:t>Локальные нормативные акты 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2360" y="1026720"/>
            <a:ext cx="417528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4320" y="1341000"/>
            <a:ext cx="41893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40720" y="17640"/>
            <a:ext cx="1439640" cy="125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1880" y="189000"/>
            <a:ext cx="8699400" cy="93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Comic Sans MS"/>
              </a:rPr>
              <a:t>Локальные нормативные акты, содержащие нормы трудового пра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6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3500000"/>
          </a:gradFill>
          <a:ln w="10152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штатное распис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олжностные инстр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иказы и распоряжения, имеющие нормативное содерж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ложение о персона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ложение о порядке ведения коллективных перегов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ложение о комиссии по трудовым спо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равила внутреннего трудового рас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рафики см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оложение об оплате труда и стимулирующих выпла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кты, устанавливающие нормы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кты, устанавливающие разделение дня на ч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кты, устанавливающие продолжительность вахты и режим труда и отды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SzPct val="14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чередность предоставления ежегодных оплачиваемых отпус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28000" y="-100080"/>
            <a:ext cx="1224000" cy="106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5400000">
            <a:off x="8028720" y="5661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85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85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35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485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35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85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35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85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35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85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35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85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935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985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2360" y="333000"/>
            <a:ext cx="863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Локальные нормативные акты, включающие требования</a:t>
            </a:r>
            <a:br>
              <a:rPr sz="3200"/>
            </a:b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 охраны труда: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582560"/>
            <a:ext cx="8375760" cy="4942080"/>
          </a:xfrm>
          <a:prstGeom prst="rect">
            <a:avLst/>
          </a:prstGeom>
          <a:gradFill rotWithShape="0">
            <a:gsLst>
              <a:gs pos="0">
                <a:srgbClr val="f4faa0"/>
              </a:gs>
              <a:gs pos="100000">
                <a:srgbClr val="f97167"/>
              </a:gs>
            </a:gsLst>
            <a:lin ang="8100000"/>
          </a:gradFill>
          <a:ln w="1015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должностные инструкции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риказы и распоряжения о распределении обязанносте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стандарты организаци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оложение об организации работ по охране труда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оложение о системе управления охраной труда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риказ о создании комитета (комиссии) по охране труд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оложение о порядке обучения и проверки знаний по охране труда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еречень профессий и работ с повышенными требования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еречень мест производств и видов работ по наряду- допуску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технологические регламенты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еречень категорий работников обязанных проходить мед. осмотры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перечни тяжелых работ и работ с вредными (опасными) условиями труда, на которых запрещено (ограничено) применение труда лиц моложе 18 лет (женщин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инструкции по охране тру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7451640" y="-14400"/>
            <a:ext cx="1728720" cy="1501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5400000">
            <a:off x="7884000" y="580464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925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425"/>
                            </p:stCondLst>
                            <p:childTnLst>
                              <p:par>
                                <p:cTn id="79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475"/>
                            </p:stCondLst>
                            <p:childTnLst>
                              <p:par>
                                <p:cTn id="800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9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8775"/>
                            </p:stCondLst>
                            <p:childTnLst>
                              <p:par>
                                <p:cTn id="80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775"/>
                            </p:stCondLst>
                            <p:childTnLst>
                              <p:par>
                                <p:cTn id="81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3775"/>
                            </p:stCondLst>
                            <p:childTnLst>
                              <p:par>
                                <p:cTn id="82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6725"/>
                            </p:stCondLst>
                            <p:childTnLst>
                              <p:par>
                                <p:cTn id="82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9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25"/>
                            </p:stCondLst>
                            <p:childTnLst>
                              <p:par>
                                <p:cTn id="835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3675"/>
                            </p:stCondLst>
                            <p:childTnLst>
                              <p:par>
                                <p:cTn id="842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9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7025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0525"/>
                            </p:stCondLst>
                            <p:childTnLst>
                              <p:par>
                                <p:cTn id="85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9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2775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36575"/>
                            </p:stCondLst>
                            <p:childTnLst>
                              <p:par>
                                <p:cTn id="870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9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3875"/>
                            </p:stCondLst>
                            <p:childTnLst>
                              <p:par>
                                <p:cTn id="877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9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2360" y="107640"/>
            <a:ext cx="8639280" cy="116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Правила  внутреннего трудового распоряд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91520" cy="5040360"/>
          </a:xfrm>
          <a:prstGeom prst="rect">
            <a:avLst/>
          </a:prstGeom>
          <a:gradFill rotWithShape="0">
            <a:gsLst>
              <a:gs pos="0">
                <a:srgbClr val="e1c5b5"/>
              </a:gs>
              <a:gs pos="100000">
                <a:srgbClr val="dd753b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cc66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Общие полож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Порядок приема на работ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Основные обязанности работник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Основные права работник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Основные права и обязанности работодател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Режим рабочего времен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Время отдых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Меры морального и материального поощр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Ответственность за нарушение трудовой дисциплин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Заключительные положен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73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24720" y="-27000"/>
            <a:ext cx="165744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400000">
            <a:off x="7884000" y="5877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425"/>
                            </p:stCondLst>
                            <p:childTnLst>
                              <p:par>
                                <p:cTn id="9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925"/>
                            </p:stCondLst>
                            <p:childTnLst>
                              <p:par>
                                <p:cTn id="9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3775"/>
                            </p:stCondLst>
                            <p:childTnLst>
                              <p:par>
                                <p:cTn id="9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4800"/>
                            </p:stCondLst>
                            <p:childTnLst>
                              <p:par>
                                <p:cTn id="9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25"/>
                            </p:stCondLst>
                            <p:childTnLst>
                              <p:par>
                                <p:cTn id="9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7100"/>
                            </p:stCondLst>
                            <p:childTnLst>
                              <p:par>
                                <p:cTn id="9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525"/>
                            </p:stCondLst>
                            <p:childTnLst>
                              <p:par>
                                <p:cTn id="9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9525"/>
                            </p:stCondLst>
                            <p:childTnLst>
                              <p:par>
                                <p:cTn id="9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300"/>
                            </p:stCondLst>
                            <p:childTnLst>
                              <p:par>
                                <p:cTn id="9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1725"/>
                            </p:stCondLst>
                            <p:childTnLst>
                              <p:par>
                                <p:cTn id="9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3325"/>
                            </p:stCondLst>
                            <p:childTnLst>
                              <p:par>
                                <p:cTn id="9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636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ffff"/>
                </a:solidFill>
                <a:latin typeface="Georgia"/>
              </a:rPr>
              <a:t>1. Перерывы для отдыха и пит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Georgia"/>
              </a:rPr>
              <a:t>Предоставляется не более 2-х часов и не менее 30 мину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Georgia"/>
              </a:rPr>
              <a:t>Время перерыва для отдыха и питания не включается в счет рабочего времени и не оплачивается, поэтому работник вправе использовать его по своему усмотрен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ffff"/>
                </a:solidFill>
                <a:latin typeface="Georgia"/>
              </a:rPr>
              <a:t>2. Специальные перерывы для обогревания и отдых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Georgia"/>
              </a:rPr>
              <a:t>Специальные перерывы, обусловлены технологией и организацией производства и труда. Виды этих работ, продолжительность и порядок предоставления таких перерывов устанавливаются правилами внутреннего трудового распорядка организ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ffff"/>
                </a:solidFill>
                <a:latin typeface="Georgia"/>
              </a:rPr>
              <a:t>3. Продолжительность еженедельного непрерывного отдыха</a:t>
            </a: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Georgia"/>
              </a:rPr>
              <a:t>Не может быть менее 24 часов  и должна соблюдаться во всех организаци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ffff"/>
                </a:solidFill>
                <a:latin typeface="Georgia"/>
              </a:rPr>
              <a:t>4. Выходные д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66"/>
                </a:solidFill>
                <a:latin typeface="Georgia"/>
              </a:rPr>
              <a:t>Выходными днями являются свободные от работы дни календарной недели, предоставляемые работникам для отдых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ffff"/>
                </a:solidFill>
                <a:latin typeface="Georgia"/>
              </a:rPr>
              <a:t>5. Нерабочие праздничные дни</a:t>
            </a:r>
            <a:r>
              <a:rPr b="1" i="1" lang="en-US" sz="2200" spc="-1" strike="noStrike">
                <a:solidFill>
                  <a:srgbClr val="00ffff"/>
                </a:solidFill>
                <a:latin typeface="Georgi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884000" y="6238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4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201600" y="34560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Georgia"/>
              </a:rPr>
              <a:t>Ежегодные оплачиваемые отпуска</a:t>
            </a:r>
            <a:r>
              <a:rPr b="0" i="1" lang="en-US" sz="4400" spc="-1" strike="noStrike">
                <a:solidFill>
                  <a:srgbClr val="ff00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268280"/>
            <a:ext cx="8496000" cy="5429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4a4a5d"/>
              </a:gs>
            </a:gsLst>
            <a:lin ang="135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6040" y="1268280"/>
            <a:ext cx="8229600" cy="507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Работникам предоставляются ежегодные оплачиваемые отпуска с сохранением места работы (должности) и среднего зарабо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Ежегодный основной оплачиваемый отпуск предоставляется работникам продолжительностью 28 календарных дн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(Удлиненный основной отпуск) предоставляется работникам в соответствии с Трудовым кодекс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Лицам, работающим по совместительству, ежегодные оплачиваемые отпуска предоставляются одновременно с отпуском по основной работ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347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ec40e4"/>
                </a:solidFill>
                <a:latin typeface="Garamond"/>
                <a:ea typeface="Times New Roman"/>
              </a:rPr>
              <a:t>Основные принципы правового регулирования трудовых отноше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ение права каждого работника на справедливые условия тру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государственных гарантий по обеспечению прав работников и работодателей, осуществление государственного надзора и контроля за их соблюде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е партнерство, включающее право на участие работников, работодателей, их объединений в договорном регулировании трудовых 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1280" y="1219320"/>
            <a:ext cx="1512720" cy="131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9144000" cy="7066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ff"/>
                </a:solidFill>
                <a:latin typeface="Georgia"/>
              </a:rPr>
              <a:t>Ежегодные дополнительные оплачиваемые отпус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125360"/>
            <a:ext cx="8642160" cy="56613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35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197000"/>
            <a:ext cx="8229600" cy="525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Предоста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0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работникам, занятым на работе с вредными и (или) опасными условиями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0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работникам, имеющим особый характер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0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работникам с ненормированным рабочим д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0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работникам, работающим в районах Крайнего Севера и приравненных к ним местнос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0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 других случаях, предусмотренных федеральными зако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Отпуск работникам, занятым на работах с вредными и (или) опасными условиями труда предста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33360" algn="just">
              <a:lnSpc>
                <a:spcPct val="80000"/>
              </a:lnSpc>
              <a:spcBef>
                <a:spcPts val="499"/>
              </a:spcBef>
              <a:buClr>
                <a:srgbClr val="9900ff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на подземных горных рабо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33360" algn="just">
              <a:lnSpc>
                <a:spcPct val="80000"/>
              </a:lnSpc>
              <a:spcBef>
                <a:spcPts val="499"/>
              </a:spcBef>
              <a:buClr>
                <a:srgbClr val="9900ff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на открытых горных работах в разрезах и карье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33360" algn="just">
              <a:lnSpc>
                <a:spcPct val="80000"/>
              </a:lnSpc>
              <a:spcBef>
                <a:spcPts val="499"/>
              </a:spcBef>
              <a:buClr>
                <a:srgbClr val="9900ff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 зонах радиоактивного за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33360" algn="just">
              <a:lnSpc>
                <a:spcPct val="80000"/>
              </a:lnSpc>
              <a:spcBef>
                <a:spcPts val="499"/>
              </a:spcBef>
              <a:buClr>
                <a:srgbClr val="9900ff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на других работах, связанных с неустранимыми неблагоприятными воздействиями на здоровье человека вредных физическ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333360" algn="just">
              <a:lnSpc>
                <a:spcPct val="80000"/>
              </a:lnSpc>
              <a:spcBef>
                <a:spcPts val="499"/>
              </a:spcBef>
              <a:buClr>
                <a:srgbClr val="9900ff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химических, биологических и и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40720" y="-27000"/>
            <a:ext cx="140328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8316000" y="6282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0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550"/>
                            </p:stCondLst>
                            <p:childTnLst>
                              <p:par>
                                <p:cTn id="11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050"/>
                            </p:stCondLst>
                            <p:childTnLst>
                              <p:par>
                                <p:cTn id="1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840" y="345600"/>
            <a:ext cx="8642520" cy="49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eorgia"/>
              </a:rPr>
              <a:t>Оплачиваемый отпуск должен быть продлен в случаях: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1197000"/>
            <a:ext cx="8604000" cy="5400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99ccff"/>
              </a:gs>
              <a:gs pos="100000">
                <a:srgbClr val="3366f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272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ременной нетрудоспособности работ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272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сполнения работником во время ежегодного оплачиваемого отпуска государственных обязанностей, если для этого законом предусмотрено освобождение от работы (см. ст. 170 Т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2728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 других случаях, предусмотренных законами, локальными нормативными актами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Ежегодный оплачиваемый отпуск по соглашению между работником и работодателем переносится на другой срок, если работнику своевременно (т.е. позднее чем за 3 дня до начала отпуска) не была произведена оплата за время этого отпуска либо работник был предупрежден о времени начала отпуска позднее чем за 2 недели до его нач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Ежегодный оплачиваемый отпуск может быть разделен на части по соглашению между работником и работодате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Работодатель может отозвать работника из отпуска, если это необходимо по тем или иным производственным нуждам, но только с его соглас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956720" y="404640"/>
            <a:ext cx="1116000" cy="1019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5400000">
            <a:off x="8171280" y="602208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6360" y="115920"/>
            <a:ext cx="8496000" cy="123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Georgia"/>
              </a:rPr>
              <a:t>В стаж работы дающий право н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Georgia"/>
              </a:rPr>
              <a:t>ежегодный основной оплачиваемы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Georgia"/>
              </a:rPr>
              <a:t>отпуск, включаетс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360" y="1484280"/>
            <a:ext cx="8640720" cy="5040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808080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484280"/>
            <a:ext cx="849600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indent="35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ремя фактическ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ремя, когда работник фактически не работал, но за ним в соответствии с федеральными законами сохранялось место работы (должность), в том числе время ежегодного оплачиваемого отпу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ремя вынужденного прогула при незаконном увольнении или отстранения от работы и последующем восстановлении на прежней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ругие периоды времени, предусмотренные коллективным договором, трудовым договором или локальным нормативным  актом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413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5400000">
            <a:off x="8568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Права работодателя в сфере трудовых отнош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Согласно  ст. 22 Т рудового кодекса РФ работод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имеет пра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заключать, изменять и расторгать трудовые договоры с  работник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вести коллективные переговоры и заключать коллективные догово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поощрять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требовать от работников исполнения ими трудовых обязанностей и бережного отношения к имуществу работодате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привлекать работников к дисциплинарной и материальной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принимать локальные нормативные ак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создавать объединения работодателей в целях представительства и защиты своих  интересов и вступать в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704000" y="83664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5400000">
            <a:off x="8316000" y="6282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5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9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1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5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9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Обязанности работодателя в сфере трудовых отнош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9966"/>
                </a:solidFill>
                <a:uFillTx/>
                <a:latin typeface="Arial"/>
              </a:rPr>
              <a:t>Согласно ст. 22 Трудового кодекса РФ работодатель обяза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облюдать законы и иные нормативные правовые ак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едоставлять работникам работу, обусловленную трудовым догово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обеспечивать безопасность труда и условия, отвечающие требованиям охраны и гигиены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обеспечивать работников оборудованием, инструментами, технической документацией и иными средств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обеспечивать работникам равную зарплату за труд равной це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выплачивать в полном размере причитающуюся  работникам заработную плату в сро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вести коллективные переговоры, а также заключать коллективный догов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предоставлять представителям работников полную  и достоверную информацию,  необходимую для заключения коллективного догов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воевременно выполнять предписания федеральных органов исполнительной вла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рассматривать представления соответствующих профсоюзных орга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создавать условия обеспечивающие участие работников в управлении организаци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обеспечивать бытовые нужды работников, связанные с исполнением ими трудовых обязан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осуществлять обязательное социальное страх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возмещать вред причиненный работникам в связи с исполнением ими трудовых  обязан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bbe0e3"/>
                </a:solidFill>
                <a:latin typeface="Arial"/>
              </a:rPr>
              <a:t>исполнятьиные обяза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630864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3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9" dur="2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2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20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20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20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20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5" dur="2000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рава работника в сфере трудов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ff33"/>
                </a:solidFill>
                <a:uFillTx/>
                <a:latin typeface="Arial"/>
              </a:rPr>
              <a:t>Согласно ст. 21 Трудового кодекса РФ работник в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ff33"/>
                </a:solidFill>
                <a:uFillTx/>
                <a:latin typeface="Arial"/>
              </a:rPr>
              <a:t>трудовых отношений имеет право на следующе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аключение, изменение и расторжение трудового догов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редоставление ему работы,  обусловленной трудовым догово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рабочее место, соответствующее условиям, предусмотренным государственными стандар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воевременную и в полном объеме выплату заработной пла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тдых, обеспечиваемый установлением нормальной  продолжительности рабочего време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олную достоверную информацию об условиях труда и требованиях охраны труда на рабочем мест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рофессиональную подготовку, переподготовку и  повышение своей квалифик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бъединение, включая право на создание профессиональных союзов и вступление в 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участие в управлении организацией в предусмотренных Трудовым кодексом, иными федеральными зако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едение коллективных переговоров и заключение коллективных догов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ащиту своих  трудовых прав, свобод и законных интересов всеми не запрещенными  законами способ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разрешение индивидуальных и коллективных трудовых сп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озмещение вреда, причиненного работнику в связи с исполнением им трудовых обязан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бязательное социальное страхование в случаях,  предусмотренных федеральными зако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380360" y="76500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8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2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6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0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4" dur="2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8" dur="2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2" dur="2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6" dur="2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0" dur="2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4" dur="2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8" dur="2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2" dur="2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Обязанности работника в сфере трудовых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обросовестно исполнять свои трудовые обязанности, возложенные на него трудовым догово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соблюдать правила внутреннего трудового распорядка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соблюдать трудовую дисципли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ыполнять установленные нормы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соблюдать требования по охране труда и обеспечению безопасности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ережно относится к имуществу работодателя и других  рабо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езамедлительно сообщать работодателю либо непосредственному руководителю о возникновении ситуации, представляющей угрозу жизни и здоровью людей, сохранности имущества работодателя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164360" y="54936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300"/>
                            </p:stCondLst>
                            <p:childTnLst>
                              <p:par>
                                <p:cTn id="1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6300"/>
                            </p:stCondLst>
                            <p:childTnLst>
                              <p:par>
                                <p:cTn id="1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2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580"/>
                            </p:stCondLst>
                            <p:childTnLst>
                              <p:par>
                                <p:cTn id="1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194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31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8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4460"/>
                            </p:stCondLst>
                            <p:childTnLst>
                              <p:par>
                                <p:cTn id="1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6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7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8" dur="8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6980"/>
                            </p:stCondLst>
                            <p:childTnLst>
                              <p:par>
                                <p:cTn id="1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8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9260"/>
                            </p:stCondLst>
                            <p:childTnLst>
                              <p:par>
                                <p:cTn id="1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8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0" dur="8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оллективные договоры и соглаш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Определение коллективного догов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в ст. 40 ТК РФ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риводится в следующем из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ллективный  договор – правовой акт, регулиру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циально – трудовые отношения в организации и заключа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ботниками и работодателем в лице их  представ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ллективный  договор  является локальным нормативным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ав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глашением, т.е. актом,  который заключается в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говорном порядке, 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ряду с конкретными обязательства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держит  нормы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язательная часть коллективного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говора – конкр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язательства работодателя по обеспечению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словий труда,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лагоприятные по сравнению с установленными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уд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конодательством  (ст. 41 Т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рядок разработки проекта коллективного договора и его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пределяется в соответствии с Трудовым кодексом и и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деральными  зак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9300"/>
                            </p:stCondLst>
                            <p:childTnLst>
                              <p:par>
                                <p:cTn id="14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5300"/>
                            </p:stCondLst>
                            <p:childTnLst>
                              <p:par>
                                <p:cTn id="14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900"/>
                            </p:stCondLst>
                            <p:childTnLst>
                              <p:par>
                                <p:cTn id="14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3700"/>
                            </p:stCondLst>
                            <p:childTnLst>
                              <p:par>
                                <p:cTn id="14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7700"/>
                            </p:stCondLst>
                            <p:childTnLst>
                              <p:par>
                                <p:cTn id="15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59900"/>
                            </p:stCondLst>
                            <p:childTnLst>
                              <p:par>
                                <p:cTn id="15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65700"/>
                            </p:stCondLst>
                            <p:childTnLst>
                              <p:par>
                                <p:cTn id="15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72200"/>
                            </p:stCondLst>
                            <p:childTnLst>
                              <p:par>
                                <p:cTn id="15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77800"/>
                            </p:stCondLst>
                            <p:childTnLst>
                              <p:par>
                                <p:cTn id="15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81400"/>
                            </p:stCondLst>
                            <p:childTnLst>
                              <p:par>
                                <p:cTn id="15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88200"/>
                            </p:stCondLst>
                            <p:childTnLst>
                              <p:par>
                                <p:cTn id="1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93900"/>
                            </p:stCondLst>
                            <p:childTnLst>
                              <p:par>
                                <p:cTn id="15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Содержание  и структура коллективного догов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ff"/>
                </a:solidFill>
                <a:latin typeface="Arial"/>
              </a:rPr>
              <a:t>В коллективный договор могут  включаться  взаим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ff"/>
                </a:solidFill>
                <a:latin typeface="Arial"/>
              </a:rPr>
              <a:t>обязательства</a:t>
            </a:r>
            <a:r>
              <a:rPr b="0" i="1" lang="en-US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c00ff"/>
                </a:solidFill>
                <a:latin typeface="Arial"/>
              </a:rPr>
              <a:t>работников и</a:t>
            </a:r>
            <a:r>
              <a:rPr b="0" i="1" lang="en-US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c00ff"/>
                </a:solidFill>
                <a:latin typeface="Arial"/>
              </a:rPr>
              <a:t>работодателя  по следующим  вопрос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)  формы, системы и размеры оплаты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2)  выплата пособий,  компенс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3) механизм регулирования оплаты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4) занятость, переобучение, условия высвобождения рабо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5) рабочее время и время отды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6) улучшение условий и охрана труда  рабо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7) соблюдение интересов работников при приватизации  орган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8) экологическая безопасность и охрана 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9) гарантии и льготы работни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0) оздоровление и отдых работников и членов их сем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1) контроль выполнения коллективного дого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2) отказ от забастовок при выполнении  соответствующих  усло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13) другие вопросы, определенные стор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500"/>
                            </p:stCondLst>
                            <p:childTnLst>
                              <p:par>
                                <p:cTn id="1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7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9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5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2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1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2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20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20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9" dur="200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5" dur="2000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6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2000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2000" fill="hold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 fill="hold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2000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3" dur="2000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9" dur="2000"/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Защита  трудовых  прав  работник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Общие 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сновными способами защиты  трудовых  пра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аконных интересов работников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государственный  надзор и контроль  соблюдения  трудового законода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защита трудовых  прав  работников  профессиональными союз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амозащита  работника трудовых  пр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  соответствии  со  ст.  45  Конституции РФ гражда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оссийской Федерации гарантируется защита 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еловека.  Каждый  в праве  защищать свои права и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семи  способами,  не запрещенными  законом (Ст. 352 ТК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36000" y="47628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ститут   уполномоченных по охране тру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оздается в рамках правового регулирования трудовых отношений  для   организации общественного контроля за соблюдением законных  прав  и  интересов работников в  области  охраны  труда  на  предприятиях  всех  форм собственности независимо от сферы их  хозяйственной  деятельности, ведомственной подчиненности и численности рабо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1280" y="1219320"/>
            <a:ext cx="1512720" cy="131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824616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Государственный контроль и надзор  за  соблюдением трудового законода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Государственный контроль и надзор  за соблюдением труд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законодательства осуществляют органы  федеральной  инспекции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Государственный  надзор  за  соблюдением  правил  по безопас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ведению  работ  в  отдельных  отраслях осуществляют  федеральные  орг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исполнительной  власти по  надзору  в установленной  сфере 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Внутриведомственный государственный  контроль  соблюдения  труд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законодательства в  подведомственных  организациях  осуществл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федеральные  органы  исполнительной  власти  субъектов  Российской 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и  органы  местного  само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Государственный  надзор  за  точным  и единообразным  испол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трудового законодательства и иных  нормативных  правовых  актов осуществл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Генеральный  прокурор Российской  Федерации  и  подчиненные  ему    прокур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в  соответствии с  федеральным  зако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8" dur="20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9" dur="2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2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2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2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20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20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2000" fill="hold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0" fill="hold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едеральная  инспекция 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ая инспекция труда - единая централизованная 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х  органов, осуществляющих  надзор  и 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я  трудового законодательства и иных  нормативных  прав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ыми задачами органов  федеральной  инспекции труд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соблюдения  и  защита трудовых  прав  и свобод  гражд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 соблюдения  работодателем  трудового  законодательства и  иных  нормативных  правовых  а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работодателей  и работников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дение  до сведения  соответствующих  органов государственной  власти  фактов 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Основные полномочия органов Федеральной инспекци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существляют  государственный  надзор и контроль за соблюдением  в организациях труд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анализируют  обстоятельства и причины  выявленных  нарушений  трудовых  пр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гражд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существляют  в  соответствии с  законодательством  Российской  Федерации рассмотрение  дел  об  административных  правонаруше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направляют  в  установленном порядке  соответствующую  информацию  в федеральные  органы  исполнительной  вл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реализуют  мероприятия по координации деятельности  ведомственных  органов  надзора  и контроля  и федеральных  органов исполнительской  власти  в  части  обеспечения соблюдения  труд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производят предупредительный  надзор  за  строительством  и реконструкцией действующих  объек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существляют контроль и надзор за  соблюдением установленного  порядка расследования  и учета  несчастных  случаев  на  производ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бобщают  практику  применения,  анализируют  причины  нарушений  труд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анализируют  состояние  и причины  производственного травматизма и разрабатывают предложения  по его  профилак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Защита  трудовых  прав  </a:t>
            </a:r>
            <a:br>
              <a:rPr sz="3200"/>
            </a:b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работников  </a:t>
            </a:r>
            <a:br>
              <a:rPr sz="3200"/>
            </a:b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профессиональными  сою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ессиональные  союзы  имеют  право  на  осуществление  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блюдения  не только  законодательства о  труде, но и иных  нормати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овых  актов,  содержащих  нормы  трудового  пра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ные  вопросы   профессионального надзора и контроля:  труд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говор (контракт),  рабочее время  и время  отды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фсоюзные  инспекторы  труда имеют  пра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уществлять контроль  соблюдения работодателями трудового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водить независимую  экспертизу  условий 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нимать участие  в  расследовании несчастных  случае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ать информацию  от  руков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щищать права и интересы  членов  проф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200"/>
                            </p:stCondLst>
                            <p:childTnLst>
                              <p:par>
                                <p:cTn id="19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0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1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2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6600"/>
                            </p:stCondLst>
                            <p:childTnLst>
                              <p:par>
                                <p:cTn id="19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6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3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4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10720"/>
                            </p:stCondLst>
                            <p:childTnLst>
                              <p:par>
                                <p:cTn id="20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11220"/>
                            </p:stCondLst>
                            <p:childTnLst>
                              <p:par>
                                <p:cTn id="20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2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3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4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2980"/>
                            </p:stCondLst>
                            <p:childTnLst>
                              <p:par>
                                <p:cTn id="20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8" dur="8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9" dur="8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0" dur="8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5820"/>
                            </p:stCondLst>
                            <p:childTnLst>
                              <p:par>
                                <p:cTn id="20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4" dur="8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5" dur="8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6" dur="8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7580"/>
                            </p:stCondLst>
                            <p:childTnLst>
                              <p:par>
                                <p:cTn id="2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0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1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2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9540"/>
                            </p:stCondLst>
                            <p:childTnLst>
                              <p:par>
                                <p:cTn id="20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6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7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8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940"/>
                            </p:stCondLst>
                            <p:childTnLst>
                              <p:par>
                                <p:cTn id="20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2" dur="8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3" dur="8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4" dur="80"/>
                                        <p:tgtEl>
                                          <p:spTgt spid="2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ормы  самозащиты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тниками своих 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удовых  пра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защита предполагает  самостоятельные  активные 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ов  по  охране своих  трудовых  прав,  жизни  и здоровья  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я  или  наряду  с  обращением  в  органы  по  рас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 трудовых  споров  либо  в  органы  по  надзору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ю   соблюдения  законодательства  о  тру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защиту  трудовых  прав  необходимо  отличать  от  забаст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защита – это  отказ  от  выполнения  работы  в  целях 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 трудовых  прав  рабо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астовка  же  представляет  собой  отказ  выполнять  труд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ности  с  целью   разрешить коллективный  спо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3900"/>
                            </p:stCondLst>
                            <p:childTnLst>
                              <p:par>
                                <p:cTn id="20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10100"/>
                            </p:stCondLst>
                            <p:childTnLst>
                              <p:par>
                                <p:cTn id="20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22200"/>
                            </p:stCondLst>
                            <p:childTnLst>
                              <p:par>
                                <p:cTn id="20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6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39200"/>
                            </p:stCondLst>
                            <p:childTnLst>
                              <p:par>
                                <p:cTn id="21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8" dur="1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49500"/>
                            </p:stCondLst>
                            <p:childTnLst>
                              <p:par>
                                <p:cTn id="2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55500"/>
                            </p:stCondLst>
                            <p:childTnLst>
                              <p:par>
                                <p:cTn id="21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1000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Рассмотрение  индивидуальных  трудовых  сп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218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Трудовой  спор – неурегулированные  разногласия 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работодателем  и  работником  по  вопросам   приме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законов  и иных  нормативных  правовых  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Трудовой  спор – это  спор  об  установлении нового  трудо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субъективн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Индивидуальным  трудовым  спором  признаётся  спор 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работодателем  и лицом,  ранее состоявшим  в  труд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отношениях  с  этим  работод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rot="5400000">
            <a:off x="824436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0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2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4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9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6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3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2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7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2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3" dur="20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4" dur="2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Права работников в 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Arial"/>
              </a:rPr>
              <a:t>области охраны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Каждый работник имеет право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рабочее место, соответствующее требованиям охраны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обязательное социальное страхование от несчастных случа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получение достоверной информации от работод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отказ от выполнения работ в случае возникновения опасности для его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обеспечение средствами индивидуальной и коллективной защи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обучение безопасным методам и приёмам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профессиональную переподгот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400000">
            <a:off x="8171280" y="602208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6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4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8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6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0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4" dur="20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бязанности работников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в области охраны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Каждый работник обяз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облюдать требования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равильно применять средства индивидуальной и коллективной защи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роходить обучение безопасным методам и приёмам выполнения работ по охране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немедленно извещать своего непосредственного или вышестоящего руковод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проходить обязательные предварительные и периодические медицинские осмотр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3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6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8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ветственн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8229600" cy="4707000"/>
        </p:xfrm>
        <a:graphic>
          <a:graphicData uri="http://schemas.openxmlformats.org/drawingml/2006/table">
            <a:tbl>
              <a:tblPr/>
              <a:tblGrid>
                <a:gridCol w="2743200"/>
                <a:gridCol w="2971800"/>
                <a:gridCol w="25146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Дисциплинар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а совершение работником дисциплинарного проступ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т. ст. 192 – 194</a:t>
                      </a: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Трудового кодекса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 Материаль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а нанесение материального ущерба в результате виновного противоправного поведения (действий или бездействия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аздел Х</a:t>
                      </a: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Трудового кодекса Р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.Администрати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а совершение административных правонаруш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одекс об административных правонарушениях Р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. Уголовна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За деяния (действие или бездействие), содержащие все призна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Уголовный кодекс Р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rot="5400000">
            <a:off x="8568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0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c40e4"/>
                </a:solidFill>
                <a:latin typeface="Arial"/>
                <a:ea typeface="Times New Roman"/>
              </a:rPr>
              <a:t>Основными задачами уполномоченных являются</a:t>
            </a:r>
            <a:r>
              <a:rPr b="0" i="1" lang="en-US" sz="3600" spc="-1" strike="noStrike">
                <a:solidFill>
                  <a:srgbClr val="ec40e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действие созданию в производственном подразделении (на предприятии) здоровых  и безопасных условий тру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ление контроля за состоянием охраны труда  в производственном подраздел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 интересов  работников  в государственных и общественных организациях  при   рассмотрении   трудовых   сп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ьтирование работников  по  вопросам  охраны  труда, оказание им помощи по защите их прав на охрану тру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1280" y="838080"/>
            <a:ext cx="1512720" cy="1314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c40e4"/>
                </a:solidFill>
                <a:latin typeface="Comic Sans MS"/>
                <a:ea typeface="Times New Roman"/>
              </a:rPr>
              <a:t>Функции уполномоченных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уществление  контроля  за  соблюдением   работодателями законодательных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правовых  актов  об охране труда, состоянием охраны труда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частие  в  работе  комиссий по проведению  проверок  и  обслед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частие в разработке  мероприятий  по  предупреждению несчастных случаев на производстве и профессиональных заболе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уществление  контроля  за    своевременным   сообщением руководителем подразделения  о  происшедших  несчастных случаях на производстве,  соблюдением норм  о  рабочем  времени  и времени отдыха,  предоставлением  компенсаций  и  льгот за тяжелые работы и работы с вредными или опасными условиями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частие в организации первой  помощи    пострадавш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астие  в расследовании несчастных случаев на производстве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ирование работников подразделенияо выявленных  нарушениях   требований безопас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43800" y="1143000"/>
            <a:ext cx="131616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5400000">
            <a:off x="8243640" y="5929200"/>
            <a:ext cx="809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3366ff"/>
                </a:solidFill>
                <a:latin typeface="Monotype Corsiva"/>
              </a:rPr>
              <a:t>Целями трудового законодательства являются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68000" y="1988640"/>
            <a:ext cx="8327880" cy="46818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3500000"/>
          </a:gradFill>
          <a:ln w="1015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buClr>
                <a:srgbClr val="9900cc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Modern No. 20"/>
              </a:rPr>
              <a:t>  </a:t>
            </a:r>
            <a:r>
              <a:rPr b="1" i="1" lang="en-US" sz="3800" spc="-1" strike="noStrike">
                <a:solidFill>
                  <a:srgbClr val="000000"/>
                </a:solidFill>
                <a:latin typeface="Modern No. 20"/>
              </a:rPr>
              <a:t>установление            государственных гарантий трудовых прав и свобод граждан;</a:t>
            </a:r>
            <a:r>
              <a:rPr b="1" lang="en-US" sz="3800" spc="-1" strike="noStrike">
                <a:solidFill>
                  <a:srgbClr val="000000"/>
                </a:solidFill>
                <a:latin typeface="Modern No. 20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9900cc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Modern No. 20"/>
              </a:rPr>
              <a:t>  </a:t>
            </a:r>
            <a:r>
              <a:rPr b="1" i="1" lang="en-US" sz="3800" spc="-1" strike="noStrike">
                <a:solidFill>
                  <a:srgbClr val="000000"/>
                </a:solidFill>
                <a:latin typeface="Modern No. 20"/>
              </a:rPr>
              <a:t>создание благоприятных условий труда</a:t>
            </a:r>
            <a:r>
              <a:rPr b="1" lang="en-US" sz="3800" spc="-1" strike="noStrike">
                <a:solidFill>
                  <a:srgbClr val="000000"/>
                </a:solidFill>
                <a:latin typeface="Modern No. 20"/>
              </a:rPr>
              <a:t>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buClr>
                <a:srgbClr val="9900cc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Modern No. 20"/>
              </a:rPr>
              <a:t>  </a:t>
            </a:r>
            <a:r>
              <a:rPr b="1" i="1" lang="en-US" sz="3800" spc="-1" strike="noStrike">
                <a:solidFill>
                  <a:srgbClr val="000000"/>
                </a:solidFill>
                <a:latin typeface="Modern No. 20"/>
              </a:rPr>
              <a:t>защита прав и интересов работников и работодателе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400000">
            <a:off x="856836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45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45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50"/>
                            </p:stCondLst>
                            <p:childTnLst>
                              <p:par>
                                <p:cTn id="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850"/>
                            </p:stCondLst>
                            <p:childTnLst>
                              <p:par>
                                <p:cTn id="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5000"/>
            <a:ext cx="914400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Основные принципы государственного правового регулирования 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трудовых отношений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59760" cy="482436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свобода труда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запрещение принудительного труда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защита от безработицы и содействие в трудоустройств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обеспечение права каждого работника на справедливые условия труда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равенство прав и возможностей работников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обеспечение права каждого работника на своевременную и в полном размере выплату справедливой заработной платы и т.д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596360" y="458640"/>
            <a:ext cx="1512720" cy="13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25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825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625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875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25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475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875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6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ff"/>
                </a:solidFill>
                <a:latin typeface="Comic Sans MS"/>
              </a:rPr>
              <a:t>Основными направлениями государственной политики в области охраны труда являются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9800" y="1969920"/>
            <a:ext cx="8229600" cy="470088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8100000"/>
          </a:gradFill>
          <a:ln w="10152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onotype Corsiva"/>
              </a:rPr>
              <a:t>обеспечение приоритета сохранения  жизни и здоровья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onotype Corsiva"/>
              </a:rPr>
              <a:t>принятие и реализация федеральных законов и иных нормативных правовых актов РФ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onotype Corsiva"/>
              </a:rPr>
              <a:t>государственное управление охраной труда и государственный надзор и контроль за соблюдением требований охраны труд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onotype Corsiva"/>
              </a:rPr>
              <a:t>содействие общественному контролю соблюдения прав и законных интересов работников в области охраны труд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Font typeface="Wingdings 2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Monotype Corsiva"/>
              </a:rPr>
              <a:t>расследование и учет несчастных случаев на производстве, профессиональных заболеваний и т.д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093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4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4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440"/>
                            </p:stCondLst>
                            <p:childTnLst>
                              <p:par>
                                <p:cTn id="1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94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44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94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66"/>
                </a:solidFill>
                <a:uFillTx/>
                <a:latin typeface="Comic Sans MS"/>
              </a:rPr>
              <a:t>Основные понятия в</a:t>
            </a:r>
            <a:br>
              <a:rPr sz="4800"/>
            </a:br>
            <a:r>
              <a:rPr b="1" i="1" lang="en-US" sz="4800" spc="-1" strike="noStrike" u="sng">
                <a:solidFill>
                  <a:srgbClr val="660066"/>
                </a:solidFill>
                <a:uFillTx/>
                <a:latin typeface="Comic Sans MS"/>
              </a:rPr>
              <a:t> сфере труд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4240" y="1628280"/>
            <a:ext cx="8375400" cy="4986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3500000"/>
          </a:gradFill>
          <a:ln w="101520">
            <a:solidFill>
              <a:srgbClr val="ffcc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Трудовые отношения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Социальное партнерство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Коллективный договор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Трудовой договор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Персональные данные работника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Рабочее время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Время отдыха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Оплата труда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Заработная плата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Минимальная заработная плата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Гарантии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Компенсации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Дисциплина труда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;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mic Sans MS"/>
              </a:rPr>
              <a:t>Особенности регулирования тру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7451640" y="-14400"/>
            <a:ext cx="1728720" cy="1501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5400000">
            <a:off x="8100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43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43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43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43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43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943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43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430"/>
                            </p:stCondLst>
                            <p:childTnLst>
                              <p:par>
                                <p:cTn id="2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43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3430"/>
                            </p:stCondLst>
                            <p:childTnLst>
                              <p:par>
                                <p:cTn id="2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43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43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43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743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43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07:39:14Z</dcterms:created>
  <dc:creator>Евгения</dc:creator>
  <dc:description/>
  <dc:language>en-US</dc:language>
  <cp:lastModifiedBy>Botvenko</cp:lastModifiedBy>
  <dcterms:modified xsi:type="dcterms:W3CDTF">2007-03-09T02:25:45Z</dcterms:modified>
  <cp:revision>160</cp:revision>
  <dc:subject/>
  <dc:title>Целями трудового законодательства являются:</dc:title>
</cp:coreProperties>
</file>